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7742-A888-4984-B900-0718BCBBD7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 wide range of skill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l excellent communic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as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rrumbeena PS 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rrisfield PS 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nington SC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4472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Ultranet brings together a range of key functions that support teaching, learning and adminis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l information related to students is centralised and will remain with the student as the student moves through the educ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ltranet functionality will benefit a range of users: schools, parents, students, DEECD and the reg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more info from Ultranet coaches handboo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these from the Ultranet coaches handbook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oaches are not operating in isolation.  They are supported b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University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Evalu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Table discu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What other support will you need? What support have you already ident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ave planned this break to follow the positive discussion about celebrating excellent tea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700F-A7AF-4C5A-BCC6-FCA4BA19E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EE80-D654-4579-8BAF-BE87A05D80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DF98-94EE-460E-AAB0-E427E93D1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87E8-EC71-4694-A4A7-70A42116A2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3348-A6E7-4B31-B8C5-B6B5E109C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AC18-027F-402E-9C65-E336A316B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1624-00C7-4F8A-87EA-B5ECE8815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B5DA-8167-4D9D-A847-84780D91F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E82B-6882-4031-8BE7-5C4496F4D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6E6C-894F-41F8-AAEE-B8854B575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A6EE-0D6D-46DA-B63D-A5CEC126E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9896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2640" y="213336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9528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9896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2640" y="4083480"/>
            <a:ext cx="26697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DDB8-98AF-449C-B1FA-8FC9E1FA2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60912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2618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08348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133360"/>
            <a:ext cx="404604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83480"/>
            <a:ext cx="82915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2e75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2e75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22510"/>
          <a:stretch/>
        </p:blipFill>
        <p:spPr>
          <a:xfrm>
            <a:off x="2971800" y="380880"/>
            <a:ext cx="1695600" cy="175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10233" r="0" b="10233"/>
          <a:stretch/>
        </p:blipFill>
        <p:spPr>
          <a:xfrm>
            <a:off x="7524720" y="174600"/>
            <a:ext cx="1619280" cy="194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0" r="0" b="14997"/>
          <a:stretch/>
        </p:blipFill>
        <p:spPr>
          <a:xfrm>
            <a:off x="4572000" y="457200"/>
            <a:ext cx="2971800" cy="168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0" t="0" r="4999" b="31681"/>
          <a:stretch/>
        </p:blipFill>
        <p:spPr>
          <a:xfrm>
            <a:off x="1371600" y="304920"/>
            <a:ext cx="1689120" cy="182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7011" t="0" r="21034" b="0"/>
          <a:stretch/>
        </p:blipFill>
        <p:spPr>
          <a:xfrm>
            <a:off x="-4680" y="533520"/>
            <a:ext cx="1536480" cy="16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16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618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22618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"/>
            <a:ext cx="0" cy="19051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0"/>
            <a:ext cx="0" cy="2133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172200" y="6234120"/>
            <a:ext cx="2514600" cy="47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2618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75d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75d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e75d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e75d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75d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2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7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When I grow up…….</a:t>
            </a:r>
            <a:endParaRPr b="1" lang="en-US" sz="24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74872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 u="sng">
                <a:solidFill>
                  <a:srgbClr val="226189"/>
                </a:solidFill>
                <a:uFillTx/>
                <a:latin typeface="Trebuchet MS"/>
              </a:rPr>
              <a:t>Ultranet School Visit Pro-forma</a:t>
            </a:r>
            <a:br>
              <a:rPr sz="4000"/>
            </a:b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The coaches will be contacting schools in their sub-region</a:t>
            </a:r>
            <a:br>
              <a:rPr sz="3200"/>
            </a:b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to deliver the SMR Ultranet Information Package, do a walkthrough, meet the Principal, ICT Coordinator, ICT technician and Professional Learning Coordinator and to encourage the ePotential ICT Capabilities Survey.</a:t>
            </a:r>
            <a:endParaRPr b="1" lang="en-US" sz="32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740720" y="2421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771640" y="242100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651640" y="2492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0" y="2421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924360" y="2421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716280"/>
            <a:ext cx="122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Departmental &amp; Regional Staf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3645000"/>
            <a:ext cx="12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Principals &amp; Business Manag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1762200" y="26352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258920" y="234936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92720" y="371628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Teach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645000"/>
            <a:ext cx="12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Administrat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500280"/>
            <a:ext cx="12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Stud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3573360"/>
            <a:ext cx="93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Parents/  Guardia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64500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Training &amp; Support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411280" y="-171360"/>
            <a:ext cx="433080" cy="4608360"/>
          </a:xfrm>
          <a:custGeom>
            <a:avLst/>
            <a:gdLst>
              <a:gd name="textAreaLeft" fmla="*/ 276840 w 433080"/>
              <a:gd name="textAreaRight" fmla="*/ 433440 w 433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5472000" y="159372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838920" y="1449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8171640" y="1556280"/>
            <a:ext cx="433080" cy="1152720"/>
          </a:xfrm>
          <a:custGeom>
            <a:avLst/>
            <a:gdLst>
              <a:gd name="textAreaLeft" fmla="*/ 276840 w 433080"/>
              <a:gd name="textAreaRight" fmla="*/ 433440 w 43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155736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3,000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1557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~ 44,000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148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~ 55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1720" y="1484280"/>
            <a:ext cx="15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AU" sz="1600" spc="-1" strike="noStrike">
                <a:solidFill>
                  <a:srgbClr val="2e75d9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8428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Baseline User Volum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65300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020000" y="436572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43280" y="4221000"/>
            <a:ext cx="13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2e75d9"/>
                </a:solidFill>
                <a:latin typeface="Verdana"/>
              </a:rPr>
              <a:t>Vic Govt Sch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486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e75d9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Verdana"/>
              </a:rPr>
              <a:t>1,6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2195640" y="436572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270036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>
            <a:off x="3059280" y="53737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4653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1,213  Prim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08464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311 Seco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5516640"/>
            <a:ext cx="23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2e75d9"/>
                </a:solidFill>
                <a:latin typeface="Arial"/>
              </a:rPr>
              <a:t>78  Special 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hape 113665"/>
          <p:cNvSpPr/>
          <p:nvPr/>
        </p:nvSpPr>
        <p:spPr>
          <a:xfrm>
            <a:off x="1008000" y="297000"/>
            <a:ext cx="770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Use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6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d9"/>
                </a:solidFill>
                <a:latin typeface="Verdana"/>
              </a:rPr>
              <a:t>Who will be using the Ultranet with us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24360" y="4365720"/>
            <a:ext cx="433440" cy="1582560"/>
          </a:xfrm>
          <a:custGeom>
            <a:avLst/>
            <a:gdLst>
              <a:gd name="textAreaLeft" fmla="*/ 276840 w 433440"/>
              <a:gd name="textAreaRight" fmla="*/ 433800 w 43344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7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6189"/>
                </a:solidFill>
                <a:latin typeface="Trebuchet MS"/>
                <a:ea typeface="宋体"/>
              </a:rPr>
              <a:t>SMR Ultranet Implementation</a:t>
            </a:r>
            <a:r>
              <a:rPr b="1" lang="en-US" sz="3600" spc="-1" strike="noStrike">
                <a:solidFill>
                  <a:srgbClr val="226189"/>
                </a:solidFill>
                <a:latin typeface="Trebuchet MS"/>
                <a:ea typeface="宋体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Angeliki Karvouni</a:t>
            </a:r>
            <a:br>
              <a:rPr sz="24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Southern Metropolitan Region</a:t>
            </a:r>
            <a:br>
              <a:rPr sz="2400"/>
            </a:br>
            <a:r>
              <a:rPr b="1" lang="en-US" sz="2400" spc="-1" strike="noStrike">
                <a:solidFill>
                  <a:srgbClr val="2e75d9"/>
                </a:solidFill>
                <a:latin typeface="Trebuchet MS"/>
                <a:ea typeface="宋体"/>
              </a:rPr>
              <a:t>Ultranet Team Leader</a:t>
            </a:r>
            <a:endParaRPr b="1" lang="en-US" sz="24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78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6189"/>
                </a:solidFill>
                <a:latin typeface="Trebuchet MS"/>
              </a:rPr>
              <a:t>7 SMR Ultranet Coaches</a:t>
            </a:r>
            <a:br>
              <a:rPr sz="24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Angeliki Karvouni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ohn McLoughlin</a:t>
            </a:r>
            <a:br>
              <a:rPr sz="18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Outer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onathan Hall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Julian Growcott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Heather Carver</a:t>
            </a:r>
            <a:br>
              <a:rPr sz="1800"/>
            </a:br>
            <a:r>
              <a:rPr b="1" lang="en-US" sz="1800" spc="-1" strike="noStrike" u="sng">
                <a:solidFill>
                  <a:srgbClr val="226189"/>
                </a:solidFill>
                <a:uFillTx/>
                <a:latin typeface="Trebuchet MS"/>
              </a:rPr>
              <a:t>Peninsula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Susie Rogers</a:t>
            </a:r>
            <a:br>
              <a:rPr sz="1800"/>
            </a:br>
            <a:r>
              <a:rPr b="1" lang="en-US" sz="1800" spc="-1" strike="noStrike">
                <a:solidFill>
                  <a:srgbClr val="226189"/>
                </a:solidFill>
                <a:latin typeface="Trebuchet MS"/>
              </a:rPr>
              <a:t>Emma Schafer</a:t>
            </a:r>
            <a:br>
              <a:rPr sz="1800"/>
            </a:br>
            <a:br>
              <a:rPr sz="3600"/>
            </a:br>
            <a:endParaRPr b="1" lang="en-US" sz="1800" spc="-1" strike="noStrike">
              <a:solidFill>
                <a:srgbClr val="22618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6189"/>
                </a:solidFill>
                <a:latin typeface="Trebuchet MS"/>
              </a:rPr>
              <a:t>Ultrane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e75d9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e75d9"/>
                </a:solidFill>
                <a:latin typeface="Arial"/>
              </a:rPr>
              <a:t>The Ultranet is an intuitive student-centred electronic learning environment that supports high quality learning and teaching, connects students, teachers and parents and enables efficient knowledge transfer.</a:t>
            </a:r>
            <a:endParaRPr b="0" lang="en-US" sz="32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92160"/>
            <a:ext cx="9144000" cy="304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8360" y="1359000"/>
            <a:ext cx="4392720" cy="4176720"/>
          </a:xfrm>
          <a:prstGeom prst="ellipse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2595600"/>
            <a:ext cx="2009880" cy="180828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Ultr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A tool for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AU" sz="1400" spc="-1" strike="noStrike">
                <a:solidFill>
                  <a:srgbClr val="ffffff"/>
                </a:solidFill>
                <a:latin typeface="Trebuchet MS"/>
              </a:rPr>
              <a:t>impro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60880" y="2084400"/>
            <a:ext cx="979200" cy="983520"/>
            <a:chOff x="3260880" y="2084400"/>
            <a:chExt cx="979200" cy="9835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420360" y="2084400"/>
              <a:ext cx="666000" cy="6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60880" y="27914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Repor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737320" y="2219400"/>
            <a:ext cx="1276200" cy="903600"/>
            <a:chOff x="5737320" y="2219400"/>
            <a:chExt cx="1276200" cy="903600"/>
          </a:xfrm>
        </p:grpSpPr>
        <p:sp>
          <p:nvSpPr>
            <p:cNvPr id="116" name=""/>
            <p:cNvSpPr/>
            <p:nvPr/>
          </p:nvSpPr>
          <p:spPr>
            <a:xfrm>
              <a:off x="5737320" y="2846520"/>
              <a:ext cx="12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Collabo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5989320" y="2219400"/>
              <a:ext cx="66492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979800" y="4383000"/>
            <a:ext cx="979560" cy="937080"/>
            <a:chOff x="3979800" y="4383000"/>
            <a:chExt cx="979560" cy="937080"/>
          </a:xfrm>
        </p:grpSpPr>
        <p:sp>
          <p:nvSpPr>
            <p:cNvPr id="119" name=""/>
            <p:cNvSpPr/>
            <p:nvPr/>
          </p:nvSpPr>
          <p:spPr>
            <a:xfrm>
              <a:off x="3979800" y="5043600"/>
              <a:ext cx="9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chool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079160" y="4383000"/>
              <a:ext cx="666000" cy="68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902200" y="3311640"/>
            <a:ext cx="979560" cy="943200"/>
            <a:chOff x="5902200" y="3311640"/>
            <a:chExt cx="979560" cy="943200"/>
          </a:xfrm>
        </p:grpSpPr>
        <p:sp>
          <p:nvSpPr>
            <p:cNvPr id="122" name=""/>
            <p:cNvSpPr/>
            <p:nvPr/>
          </p:nvSpPr>
          <p:spPr>
            <a:xfrm>
              <a:off x="5902200" y="3978360"/>
              <a:ext cx="9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taff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6030000" y="3311640"/>
              <a:ext cx="6656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5248440" y="4238640"/>
            <a:ext cx="979200" cy="1134360"/>
            <a:chOff x="5248440" y="4238640"/>
            <a:chExt cx="979200" cy="1134360"/>
          </a:xfrm>
        </p:grpSpPr>
        <p:sp>
          <p:nvSpPr>
            <p:cNvPr id="125" name=""/>
            <p:cNvSpPr/>
            <p:nvPr/>
          </p:nvSpPr>
          <p:spPr>
            <a:xfrm>
              <a:off x="5248440" y="4914000"/>
              <a:ext cx="97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Student inf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5393880" y="4238640"/>
              <a:ext cx="66456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238640" y="1428840"/>
            <a:ext cx="1650960" cy="1350360"/>
            <a:chOff x="4238640" y="1428840"/>
            <a:chExt cx="1650960" cy="1350360"/>
          </a:xfrm>
        </p:grpSpPr>
        <p:sp>
          <p:nvSpPr>
            <p:cNvPr id="128" name=""/>
            <p:cNvSpPr/>
            <p:nvPr/>
          </p:nvSpPr>
          <p:spPr>
            <a:xfrm>
              <a:off x="4238640" y="2137680"/>
              <a:ext cx="1650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Learning &amp; Teaching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4622400" y="1428840"/>
              <a:ext cx="6656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2951280" y="3446640"/>
            <a:ext cx="1282680" cy="930240"/>
            <a:chOff x="2951280" y="3446640"/>
            <a:chExt cx="1282680" cy="930240"/>
          </a:xfrm>
        </p:grpSpPr>
        <p:sp>
          <p:nvSpPr>
            <p:cNvPr id="131" name=""/>
            <p:cNvSpPr/>
            <p:nvPr/>
          </p:nvSpPr>
          <p:spPr>
            <a:xfrm>
              <a:off x="2951280" y="410040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Trebuchet MS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158280" y="3446640"/>
              <a:ext cx="73908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2493720" y="708120"/>
            <a:ext cx="51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Whole school, program and teacher curriculum planning and deli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assessment, submission and 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Digital learning cont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7640" y="1938240"/>
            <a:ext cx="2447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hared curriculum/lesson pl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llaboration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Discussion foru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Messa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Blog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2000" y="3691080"/>
            <a:ext cx="23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ff pro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ff 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43640" y="50007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prof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urse enrol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3040" y="4915080"/>
            <a:ext cx="316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Pro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alenda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ommitt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lubs &amp; organis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1280" y="3373560"/>
            <a:ext cx="19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Management of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Time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Calen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   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Reco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5640" y="186228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udent report c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Standard re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      </a:t>
            </a:r>
            <a:r>
              <a:rPr b="0" lang="en-AU" sz="1200" spc="-1" strike="noStrike">
                <a:solidFill>
                  <a:srgbClr val="226189"/>
                </a:solidFill>
                <a:latin typeface="ＭＳ Ｐゴシック"/>
              </a:rPr>
              <a:t>Ad-hoc re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03640" y="923760"/>
            <a:ext cx="5329080" cy="4967280"/>
          </a:xfrm>
          <a:prstGeom prst="ellipse">
            <a:avLst/>
          </a:prstGeom>
          <a:noFill/>
          <a:ln w="28440">
            <a:solidFill>
              <a:srgbClr val="226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3760" y="1255680"/>
            <a:ext cx="7801920" cy="4809600"/>
            <a:chOff x="1373760" y="1255680"/>
            <a:chExt cx="7801920" cy="4809600"/>
          </a:xfrm>
        </p:grpSpPr>
        <p:sp>
          <p:nvSpPr>
            <p:cNvPr id="142" name=""/>
            <p:cNvSpPr/>
            <p:nvPr/>
          </p:nvSpPr>
          <p:spPr>
            <a:xfrm>
              <a:off x="2383200" y="1255680"/>
              <a:ext cx="1244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DEEC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87920" y="1284120"/>
              <a:ext cx="1179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reg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2640" y="2940120"/>
              <a:ext cx="1465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princip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3760" y="2940120"/>
              <a:ext cx="134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teach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3920" y="4524480"/>
              <a:ext cx="2111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admin/sup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8920" y="5605560"/>
              <a:ext cx="1332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stud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9400" y="4524480"/>
              <a:ext cx="1197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26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226189"/>
                  </a:solidFill>
                  <a:latin typeface="Arial"/>
                </a:rPr>
                <a:t>par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59280" y="0"/>
            <a:ext cx="6442920" cy="520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7f7f7"/>
                </a:solidFill>
                <a:latin typeface="Trebuchet MS"/>
              </a:rPr>
              <a:t>What is the Ultranet: functi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920" y="20520"/>
            <a:ext cx="5112360" cy="520560"/>
          </a:xfrm>
          <a:prstGeom prst="rect">
            <a:avLst/>
          </a:prstGeom>
          <a:solidFill>
            <a:srgbClr val="226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7f7f7"/>
                </a:solidFill>
                <a:latin typeface="Trebuchet MS"/>
              </a:rPr>
              <a:t>What is the Ultranet: us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26189"/>
                </a:solidFill>
                <a:latin typeface="Trebuchet MS"/>
              </a:rPr>
              <a:t>Responsibilities of Ultranet Coaches</a:t>
            </a:r>
            <a:endParaRPr b="1" lang="en-US" sz="40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Focus on preparing schools for the Ultranet in the areas of: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Workplace Capability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Teaching and Learning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Leadership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Community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Data/Conten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-  Infrastructure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Champion the Ultrane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Support Regions in their role to implement the Ultranet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Late 2008 - 2009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e75d9"/>
                </a:solidFill>
                <a:latin typeface="Arial"/>
              </a:rPr>
              <a:t>Training Ultranet Super Users (average of 3-4 super users in each school)</a:t>
            </a: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</a:rPr>
              <a:t>Principal/teachers responsibilities - Ultranet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rincipals to champion Ultrane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erformance goal around preparing their school for the Ultrane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Teacher performance goal ICT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AIP Ultranet Goa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Begin planning for Ultranet implementation in their school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mplete the ePotential ICT survey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26189"/>
                </a:solidFill>
                <a:latin typeface="Trebuchet MS"/>
              </a:rPr>
              <a:t>Collaborative approach</a:t>
            </a:r>
            <a:endParaRPr b="1" lang="en-US" sz="3600" spc="-1" strike="noStrike">
              <a:solidFill>
                <a:srgbClr val="2e75d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316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Principals and associated leadership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Teacher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35280" y="1483920"/>
            <a:ext cx="331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Regional Off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Regional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Coaches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e75d9"/>
                </a:solidFill>
                <a:latin typeface="Arial"/>
              </a:rPr>
              <a:t>Central Offic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ORI 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OGSE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e75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2e75d9"/>
                </a:solidFill>
                <a:latin typeface="Arial"/>
              </a:rPr>
              <a:t>Ultranet team</a:t>
            </a: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75d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2492280"/>
            <a:ext cx="936360" cy="64764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066920" y="4149360"/>
            <a:ext cx="936360" cy="43164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2781360"/>
            <a:ext cx="0" cy="792000"/>
          </a:xfrm>
          <a:prstGeom prst="line">
            <a:avLst/>
          </a:prstGeom>
          <a:ln w="76320">
            <a:solidFill>
              <a:srgbClr val="ae0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924280"/>
            <a:ext cx="230508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068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net C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74872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26189"/>
                </a:solidFill>
                <a:latin typeface="Trebuchet MS"/>
              </a:rPr>
              <a:t>Your Ultranet Coaches</a:t>
            </a:r>
            <a:br>
              <a:rPr sz="4000"/>
            </a:br>
            <a:br>
              <a:rPr sz="24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Julian Growcott</a:t>
            </a:r>
            <a:br>
              <a:rPr sz="36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Heather Carver</a:t>
            </a:r>
            <a:br>
              <a:rPr sz="3600"/>
            </a:br>
            <a:r>
              <a:rPr b="1" lang="en-US" sz="3600" spc="-1" strike="noStrike">
                <a:solidFill>
                  <a:srgbClr val="2e75d9"/>
                </a:solidFill>
                <a:latin typeface="Trebuchet MS"/>
              </a:rPr>
              <a:t> Jonathan Hall</a:t>
            </a:r>
            <a:r>
              <a:rPr b="1" lang="en-US" sz="2400" spc="-1" strike="noStrike">
                <a:solidFill>
                  <a:srgbClr val="2e75d9"/>
                </a:solidFill>
                <a:latin typeface="Trebuchet MS"/>
              </a:rPr>
              <a:t> </a:t>
            </a:r>
            <a:br>
              <a:rPr sz="2400"/>
            </a:br>
            <a:br>
              <a:rPr sz="2400"/>
            </a:br>
            <a:r>
              <a:rPr b="1" lang="en-AU" sz="2800" spc="-1" strike="noStrike">
                <a:solidFill>
                  <a:srgbClr val="2e75d9"/>
                </a:solidFill>
                <a:latin typeface="Trebuchet MS"/>
              </a:rPr>
              <a:t>2008 – Determine School Ultranet readiness</a:t>
            </a:r>
            <a:br>
              <a:rPr sz="3200"/>
            </a:br>
            <a:br>
              <a:rPr sz="14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Late 2008 - 2009</a:t>
            </a:r>
            <a:br>
              <a:rPr sz="28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Training Ultranet Super Users </a:t>
            </a:r>
            <a:br>
              <a:rPr sz="2800"/>
            </a:br>
            <a:r>
              <a:rPr b="0" lang="en-AU" sz="2800" spc="-1" strike="noStrike">
                <a:solidFill>
                  <a:srgbClr val="2e75d9"/>
                </a:solidFill>
                <a:latin typeface="Trebuchet MS"/>
              </a:rPr>
              <a:t>(average of 3-4 super users in each school)</a:t>
            </a:r>
            <a:br>
              <a:rPr sz="2400"/>
            </a:br>
            <a:br>
              <a:rPr sz="3200"/>
            </a:br>
            <a:endParaRPr b="1" lang="en-US" sz="2800" spc="-1" strike="noStrike">
              <a:solidFill>
                <a:srgbClr val="2e75d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15:41Z</dcterms:created>
  <dc:creator>megan pearce</dc:creator>
  <dc:description/>
  <dc:language>en-US</dc:language>
  <cp:lastModifiedBy>John McLoughlin</cp:lastModifiedBy>
  <dcterms:modified xsi:type="dcterms:W3CDTF">2008-02-20T01:08:24Z</dcterms:modified>
  <cp:revision>144</cp:revision>
  <dc:subject/>
  <dc:title>Title here Background colour may change</dc:title>
</cp:coreProperties>
</file>